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3A017A-D40E-4EF8-86A7-B165E1020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6AFD92-E92D-4C7B-9427-6417167A1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26FE1B-ECAE-4486-9F9C-69DC30176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CA1B-3197-469B-9618-E55D8C4C5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533E-8E79-4C07-82C2-16726151A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3CA0-6988-469F-A6D5-8B545145E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01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66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236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01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66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91BC-6E62-4730-9581-F719EB17D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81C2-984B-462F-902A-E3A73E983B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ECEE-3030-4BB3-9B51-27820B052F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2480-B07A-4F22-B6C0-EED64B4426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33DD-F728-4485-91F6-BA2BDA282B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0EF0-3327-4E04-9C35-791580E231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2360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A52E-E1ED-4BD8-BB51-53087BAF1A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5520-3B5E-40A5-9DAF-D3208705B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F1A7-994E-4927-9079-BA04BEB7F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DEAF-7387-47A5-8225-ECC9147FF8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CDED-192C-4188-AE01-D7F1D4F499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81AC-D02B-4AC3-B7E8-A26590A641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D94B-B125-4E0D-8C46-DB899E358D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01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66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236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01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66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7260-A132-4E18-B26B-A176F67F1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8F6C-04E5-47DB-85D5-F3C624125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FAF0-984A-4FE3-8CE9-9F24B0D48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8295-2376-48F3-8FD5-5D121EB4A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360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FD6A-3A82-479D-A2C1-E07F1A7A7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5ED9-B31B-4A21-B34D-616D788CF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93A1-D7FD-4A6B-B0A3-903412F66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C83A-9EAA-4447-916F-52FDB4C1A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o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3396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CA89-BCBE-41F7-8E27-465C4F06C85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ortada_p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3"/>
          <p:cNvSpPr/>
          <p:nvPr/>
        </p:nvSpPr>
        <p:spPr>
          <a:xfrm>
            <a:off x="1411200" y="8524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14120" y="638820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0F52-6061-432A-96B9-6A075882EBA4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9861-B4FC-48EA-9507-B055253A971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Módulo III: Redacción de géneros académicos en español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AB39-28EE-4FC6-8988-457F5558EE4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critor aprendiz: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619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scribe de manera muy simpl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piensa en los lectores: escribe un texto difícil de comprender. 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nota ideas sin organizarl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planific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corrige  o solo se enfoca en la forma (ortografía)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reencia errónea: Escribir es una acción “espontánea” = hablar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sultado:   Produce textos con problemas divers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01B4-586E-4CC1-AE83-E02D2795B70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ómo se desarrolla una redacción. Serafini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lanificac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roducción de las ide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Recogida y organización de las informac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roducción del tex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El párrafo. Las conexiones. La puntuación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 introducción y las conclus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 revis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Del contenido. De la forma. La final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890-152A-4D1C-BD61-1B3C7665D098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Proceso de la escritura.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assany y Del Toro.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435640" y="2060640"/>
            <a:ext cx="3384360" cy="3097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grpSp>
        <p:nvGrpSpPr>
          <p:cNvPr id="132" name="Group 43"/>
          <p:cNvGrpSpPr/>
          <p:nvPr/>
        </p:nvGrpSpPr>
        <p:grpSpPr>
          <a:xfrm>
            <a:off x="826920" y="1916280"/>
            <a:ext cx="7777080" cy="4797360"/>
            <a:chOff x="826920" y="1916280"/>
            <a:chExt cx="7777080" cy="4797360"/>
          </a:xfrm>
        </p:grpSpPr>
        <p:sp>
          <p:nvSpPr>
            <p:cNvPr id="133" name="Rectangle 5"/>
            <p:cNvSpPr/>
            <p:nvPr/>
          </p:nvSpPr>
          <p:spPr>
            <a:xfrm>
              <a:off x="826920" y="1916280"/>
              <a:ext cx="3168720" cy="30240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3995640" y="48690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11280" y="5156280"/>
              <a:ext cx="3240000" cy="15573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140000" y="3571920"/>
              <a:ext cx="86364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900000" y="2421000"/>
              <a:ext cx="1655640" cy="8650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2484360" y="3429000"/>
              <a:ext cx="1295280" cy="7923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900000" y="4221360"/>
              <a:ext cx="1511280" cy="64764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476360" y="3571920"/>
              <a:ext cx="0" cy="433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2627280" y="2853000"/>
              <a:ext cx="504720" cy="4316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 flipH="1">
              <a:off x="2555280" y="4292640"/>
              <a:ext cx="576360" cy="4320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1476360" y="5877000"/>
              <a:ext cx="86364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 flipV="1">
              <a:off x="1476360" y="5085000"/>
              <a:ext cx="0" cy="7920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5" name="Rectangle 18"/>
            <p:cNvSpPr/>
            <p:nvPr/>
          </p:nvSpPr>
          <p:spPr>
            <a:xfrm>
              <a:off x="4356000" y="5229360"/>
              <a:ext cx="1224000" cy="5032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427280" y="5948640"/>
              <a:ext cx="1152720" cy="5047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4932360" y="5732640"/>
              <a:ext cx="0" cy="1443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5364000" y="2637000"/>
              <a:ext cx="1728720" cy="5032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6948360" y="3429000"/>
              <a:ext cx="1584360" cy="43200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5435640" y="4437000"/>
              <a:ext cx="1441440" cy="5032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>
              <a:off x="6011640" y="3213360"/>
              <a:ext cx="0" cy="1150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>
              <a:off x="7164360" y="2924280"/>
              <a:ext cx="792000" cy="4316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5795640" y="5805720"/>
              <a:ext cx="10810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 flipV="1">
              <a:off x="6877080" y="5156280"/>
              <a:ext cx="0" cy="649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5" name="Text Box 31"/>
            <p:cNvSpPr/>
            <p:nvPr/>
          </p:nvSpPr>
          <p:spPr>
            <a:xfrm>
              <a:off x="971280" y="242100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Analizar la situación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6" name="Text Box 32"/>
            <p:cNvSpPr/>
            <p:nvPr/>
          </p:nvSpPr>
          <p:spPr>
            <a:xfrm>
              <a:off x="2555640" y="350064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Generar ideas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7" name="Text Box 33"/>
            <p:cNvSpPr/>
            <p:nvPr/>
          </p:nvSpPr>
          <p:spPr>
            <a:xfrm>
              <a:off x="5508360" y="2708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Referenciar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8" name="Text Box 35"/>
            <p:cNvSpPr/>
            <p:nvPr/>
          </p:nvSpPr>
          <p:spPr>
            <a:xfrm>
              <a:off x="7092720" y="3500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Transcribir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9" name="Text Box 36"/>
            <p:cNvSpPr/>
            <p:nvPr/>
          </p:nvSpPr>
          <p:spPr>
            <a:xfrm>
              <a:off x="900000" y="414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Elaborar un proyecto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0" name="Text Box 37"/>
            <p:cNvSpPr/>
            <p:nvPr/>
          </p:nvSpPr>
          <p:spPr>
            <a:xfrm>
              <a:off x="5508360" y="450864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Linearizar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1" name="Text Box 38"/>
            <p:cNvSpPr/>
            <p:nvPr/>
          </p:nvSpPr>
          <p:spPr>
            <a:xfrm>
              <a:off x="2700360" y="57326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REVISIÓN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2" name="Text Box 39"/>
            <p:cNvSpPr/>
            <p:nvPr/>
          </p:nvSpPr>
          <p:spPr>
            <a:xfrm>
              <a:off x="4427280" y="530064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Evaluar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3" name="Text Box 40"/>
            <p:cNvSpPr/>
            <p:nvPr/>
          </p:nvSpPr>
          <p:spPr>
            <a:xfrm>
              <a:off x="4500360" y="6021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Corregir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4" name="Text Box 41"/>
            <p:cNvSpPr/>
            <p:nvPr/>
          </p:nvSpPr>
          <p:spPr>
            <a:xfrm>
              <a:off x="1116000" y="1916280"/>
              <a:ext cx="25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PLANIFICACIÓN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5" name="Text Box 42"/>
            <p:cNvSpPr/>
            <p:nvPr/>
          </p:nvSpPr>
          <p:spPr>
            <a:xfrm>
              <a:off x="5580000" y="2060640"/>
              <a:ext cx="25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TEXTUALIZACIÓN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F11-B4CB-4323-9975-214AAD3562F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249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2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Los géneros académicos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5BAE-0A3A-4564-A7E5-8C5236B1CE1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TEXTO EXPOSITIV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resenta y explica ideas, sujetos y argumentos; aclara fines; y muestra la organización del text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tiliza diferentes  modos retóricos, tales como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- definición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- clasificació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- comparación            - analogí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- paráfrasis                 - ejemplo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2332-8AD3-433E-BB96-E9D8047B473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T. A.  Aspectos socioculturale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e usan en el ámbito educativo (escuela)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esempeñan las funciones de: mostrar conocimientos, exponer resultados de una investigación, enseñar – aprender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l contenido procede de otros textos o actividades académicas. Presencia de intertextualidad. Exigen elaboración epistemológica de la informac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os usuarios son investigadores, docentes y estudiant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0656-7BE3-4426-9C44-9906343DD238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T. A. Aspectos pragmátic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5. El autor es generalmente una person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6. La audiencia son grupos de coleg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7. Los temas pertenecen al paradigma científico del saber human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8. El rasgo más importante para leerlos y utilizarlos es la descontextualización: se presentan, se evalúan y se realizan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en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y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para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 enseñanza y el aprendizaje (el aula). Son cerrados y opac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9. El texto académico se refiere con mucha frecuencia a fuentes extern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CC2E-A775-4A73-8AC3-34064981A81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T. A. Aspectos discursiv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10. La estructura es abierta, no siempre tipificada y ha de elaborarla el lector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11. Las partes o componentes principales son: introducción, desarrollo y conclus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12. El grado de formalidad es muy al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13. Las secuencias textuales encontradas son descripción, explicación, argumentación; con definiciones, clasificaciones, análisis, ejempl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E0D6-B8A8-4149-83DF-D6B6AF1D377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. A. Aspectos gramaticales y léxicos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El lenguaje es altamente especializado, de la variedad estándar y con registro formal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La fraseología típica son oraciones impersonales y nominalización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La selección sintáctica es uso del tiempo presente de indicativo, tercera persona del singular y también primera persona del plural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La sintaxis es compleja; se aleja de los usos cotidianos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Utiliza todos los signos de puntuación, aunque las exclamaciones suelen estar ausentes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984E-A302-4EF4-A2A0-0B416512012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T. A. Aspectos gráfic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19. Los documentos se presentan con formatos establecid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20. Los recursos gráficos que se emplean   principalmente son: diagramas, tablas, mapas, gráficas y cuadr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3FB6-DAAE-44BA-AEE8-221EE4E8E55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Objetiv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Identificar el uso de estrategias para escribir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ar conceptos relacionados con el proceso general de la escritur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Identificar las características de los géneros académic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Aplicar estrategias para escribir un texto breve (comentario)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AF09-F42A-43CB-95A9-C027A3BC991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24206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3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La planificación de un texto académic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E91F-B002-4EFE-A96D-BB7A9861F7E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strategias para generar idea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luvia de ideas                          Map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1" name="Picture 4" descr="j0293828"/>
          <p:cNvPicPr/>
          <p:nvPr/>
        </p:nvPicPr>
        <p:blipFill>
          <a:blip r:embed="rId1"/>
          <a:stretch/>
        </p:blipFill>
        <p:spPr>
          <a:xfrm>
            <a:off x="1547640" y="270828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192" name="Oval 5"/>
          <p:cNvSpPr/>
          <p:nvPr/>
        </p:nvSpPr>
        <p:spPr>
          <a:xfrm>
            <a:off x="5651640" y="2924280"/>
            <a:ext cx="1800000" cy="718920"/>
          </a:xfrm>
          <a:prstGeom prst="ellipse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6588000" y="3645000"/>
            <a:ext cx="576360" cy="64764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4" name="Line 7"/>
          <p:cNvSpPr/>
          <p:nvPr/>
        </p:nvSpPr>
        <p:spPr>
          <a:xfrm flipH="1">
            <a:off x="4858920" y="3284640"/>
            <a:ext cx="792360" cy="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7451640" y="3284640"/>
            <a:ext cx="1008000" cy="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6" name="Line 9"/>
          <p:cNvSpPr/>
          <p:nvPr/>
        </p:nvSpPr>
        <p:spPr>
          <a:xfrm flipV="1">
            <a:off x="6732720" y="2349000"/>
            <a:ext cx="647640" cy="57492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7" name="Line 10"/>
          <p:cNvSpPr/>
          <p:nvPr/>
        </p:nvSpPr>
        <p:spPr>
          <a:xfrm flipH="1" flipV="1">
            <a:off x="5364000" y="2420640"/>
            <a:ext cx="648000" cy="57636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8" name="Line 11"/>
          <p:cNvSpPr/>
          <p:nvPr/>
        </p:nvSpPr>
        <p:spPr>
          <a:xfrm flipH="1">
            <a:off x="5724360" y="3645000"/>
            <a:ext cx="432000" cy="50472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9" name="Line 12"/>
          <p:cNvSpPr/>
          <p:nvPr/>
        </p:nvSpPr>
        <p:spPr>
          <a:xfrm flipV="1">
            <a:off x="8388360" y="2923920"/>
            <a:ext cx="287280" cy="36036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8388360" y="3284640"/>
            <a:ext cx="360360" cy="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1" name="Line 14"/>
          <p:cNvSpPr/>
          <p:nvPr/>
        </p:nvSpPr>
        <p:spPr>
          <a:xfrm>
            <a:off x="8388360" y="3284640"/>
            <a:ext cx="287280" cy="2887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2" name="Line 17"/>
          <p:cNvSpPr/>
          <p:nvPr/>
        </p:nvSpPr>
        <p:spPr>
          <a:xfrm flipH="1">
            <a:off x="5148000" y="3284640"/>
            <a:ext cx="144360" cy="21564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3" name="Line 18"/>
          <p:cNvSpPr/>
          <p:nvPr/>
        </p:nvSpPr>
        <p:spPr>
          <a:xfrm flipH="1" flipV="1">
            <a:off x="5076720" y="3068640"/>
            <a:ext cx="216000" cy="21600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7020000" y="2708280"/>
            <a:ext cx="360360" cy="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5" name="Line 20"/>
          <p:cNvSpPr/>
          <p:nvPr/>
        </p:nvSpPr>
        <p:spPr>
          <a:xfrm flipH="1">
            <a:off x="5435640" y="2781360"/>
            <a:ext cx="216000" cy="1429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6" name="Line 21"/>
          <p:cNvSpPr/>
          <p:nvPr/>
        </p:nvSpPr>
        <p:spPr>
          <a:xfrm flipH="1">
            <a:off x="6803640" y="4076640"/>
            <a:ext cx="73080" cy="28908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7" name="Line 22"/>
          <p:cNvSpPr/>
          <p:nvPr/>
        </p:nvSpPr>
        <p:spPr>
          <a:xfrm flipV="1">
            <a:off x="6948360" y="3860640"/>
            <a:ext cx="287640" cy="1447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7020000" y="4076640"/>
            <a:ext cx="288720" cy="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9" name="Line 24"/>
          <p:cNvSpPr/>
          <p:nvPr/>
        </p:nvSpPr>
        <p:spPr>
          <a:xfrm flipV="1">
            <a:off x="5651640" y="2420640"/>
            <a:ext cx="72720" cy="14436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0" name="Line 25"/>
          <p:cNvSpPr/>
          <p:nvPr/>
        </p:nvSpPr>
        <p:spPr>
          <a:xfrm flipH="1" flipV="1">
            <a:off x="5435640" y="3933720"/>
            <a:ext cx="288720" cy="21600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1" name="Line 26"/>
          <p:cNvSpPr/>
          <p:nvPr/>
        </p:nvSpPr>
        <p:spPr>
          <a:xfrm>
            <a:off x="5724360" y="4149720"/>
            <a:ext cx="216000" cy="1429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2" name="Line 27"/>
          <p:cNvSpPr/>
          <p:nvPr/>
        </p:nvSpPr>
        <p:spPr>
          <a:xfrm flipH="1">
            <a:off x="5435640" y="4149720"/>
            <a:ext cx="288720" cy="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3" name="Line 28"/>
          <p:cNvSpPr/>
          <p:nvPr/>
        </p:nvSpPr>
        <p:spPr>
          <a:xfrm flipH="1">
            <a:off x="5579640" y="4221000"/>
            <a:ext cx="144360" cy="1447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5724360" y="4221000"/>
            <a:ext cx="0" cy="1447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5" name="Line 31"/>
          <p:cNvSpPr/>
          <p:nvPr/>
        </p:nvSpPr>
        <p:spPr>
          <a:xfrm flipH="1" flipV="1">
            <a:off x="6803640" y="2636640"/>
            <a:ext cx="73080" cy="21564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6DDB-DF73-4B65-8355-D24B822BDA2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217" name="Picture 45" descr="cubo"/>
          <p:cNvPicPr/>
          <p:nvPr/>
        </p:nvPicPr>
        <p:blipFill>
          <a:blip r:embed="rId1"/>
          <a:stretch/>
        </p:blipFill>
        <p:spPr>
          <a:xfrm>
            <a:off x="5219640" y="2492280"/>
            <a:ext cx="2737080" cy="2592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6" descr="estrella"/>
          <p:cNvPicPr/>
          <p:nvPr/>
        </p:nvPicPr>
        <p:blipFill>
          <a:blip r:embed="rId2"/>
          <a:stretch/>
        </p:blipFill>
        <p:spPr>
          <a:xfrm>
            <a:off x="1187280" y="2565360"/>
            <a:ext cx="2592720" cy="18734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7"/>
          <p:cNvSpPr/>
          <p:nvPr/>
        </p:nvSpPr>
        <p:spPr>
          <a:xfrm>
            <a:off x="723960" y="533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trategias para generar ideas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858600" y="151596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Impact"/>
              </a:rPr>
              <a:t>La estrella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1" name="Text Box 50"/>
          <p:cNvSpPr/>
          <p:nvPr/>
        </p:nvSpPr>
        <p:spPr>
          <a:xfrm>
            <a:off x="5018040" y="14446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Impact"/>
              </a:rPr>
              <a:t>El cubo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720A-AD67-4E5B-873F-7052CD6E221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JEMPLO: Generación de idea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nformación del Modelo Didactext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Estrategias cognitivas y metacognitiv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Competencia comunicativ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Memori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Cultur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Motivación y emoc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Utilidad del Model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mplejidad del Model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AB1-EC4F-4BB9-AB9B-EE733488EAF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1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 Narrow"/>
              </a:rPr>
              <a:t>Seleccionar una estrategia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 Narrow"/>
              </a:rPr>
              <a:t>Generar ideas acerca del tema ya determinado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42D0-D139-4DEF-93BC-AB64AA80223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strategias para ordenar idea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—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istas de ideas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— Asociación de ideas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 Agrupamientos asociativos: Representación gráfica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           Se escribe en el centro de la página la idea, el hecho o la   palabra sobre la que tenemos que trabajar, las ideas relacionadas se ordenan en forma radial alrededor del centro; no se muestra ninguna jerarquía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—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ategorización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Reagrupar los elementos en subconjuntos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— Mapas de ideas: Representación gráfica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 Esquema gráfico que pone en evidencia las relaciones entre los diferentes elementos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          Reorganización del agrupamiento asociativo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          Se colocan niveles de jerarquía: categorías, subcategorías, elementos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0B24-0575-449F-A5E5-02BBC6D3AD3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JEMPLO: Ordenamiento de ideas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mplejidad del Modelo Didactext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nformación del Model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Estrategias cognitivas y metacognitiv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Memori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Motivación y emoc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Competencia comunicativ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Cultur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Utilidad del Model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0F57-E313-42F1-BE42-636FC0BCCD4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2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 Narrow"/>
              </a:rPr>
              <a:t>Seleccionar una estrategia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 Narrow"/>
              </a:rPr>
              <a:t>Ordenar las ideas ya antes generadas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18E0-D23B-42BD-B259-247DA7C3B56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JEMPLO: Bosquej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Presentación del Modelo Didactext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1.1 Propósitos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2. Conformación del Modelo Didactext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2.1 Círculos concéntricos: representación del dinamismo del proceso de escritura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2.2 Los tres círculos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2.2.1 Las tres dimensiones del tercer círculo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2.2.2 La competencia comunicativa: El texto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3. Complejidad del Modelo Didactext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3.1 Ventajas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3.2 Desventajas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4. Utilidad del Modelo Didactext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4.1 Aplicaciones recientes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5. Conclusión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C3F1-E655-4ED9-83C8-37522D12764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 3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eleccionar estrategia (s)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laborar el bosquejo del texto que se va a escribir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C24E-8747-466F-9805-6A0A06BA1D4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Objetiv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619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articipar en la revisión compartida de un tex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Tomar conciencia de las áreas de fortaleza y de las áreas de oportunidad de desarrollo para organizar un programa personal dirigido a desarrollar las habilidades relacionadas con la redacción de géneros académic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ncrementar actitudes favorables a la redacción de textos académic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CAC8-1E5C-4FBC-A1FF-DB424787FE4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 4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ión compartida del bosquej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elaboración del bosquejo a partir de las sugerencias recibida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1712-ED22-4113-A604-A69C11EA3B6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 5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 Narrow"/>
              </a:rPr>
              <a:t>Escritura del primer borrador.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 Narrow"/>
              </a:rPr>
              <a:t>Consulta documental.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1317-C666-42C9-ACD3-55648178584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234900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4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La textualización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de un texto académic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7BAE-414C-479D-AA62-D3147357D88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opiedades del text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decuación    Usa la lengua más apropiada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herencia      Dominio del procesamiento 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hesión         Relaciona las partes de un texto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resentación   Abarca las convenciones 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stilística        Capacidad expresiva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rrección      Aplicación de las normas…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3203640" y="2276640"/>
            <a:ext cx="14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3132000" y="2781360"/>
            <a:ext cx="2160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3203640" y="2276640"/>
            <a:ext cx="71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2987640" y="3357720"/>
            <a:ext cx="2890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3348000" y="3789360"/>
            <a:ext cx="716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2916360" y="4365720"/>
            <a:ext cx="287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3132000" y="4869000"/>
            <a:ext cx="716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2E38-291B-4D21-A324-70ADBBBF4BC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 coherencia de un text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n texto es coherente si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u estructura significativa tiene organización lógica y tiene armonía sintáctica, semántica y pragmática entre sus part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u significado es interpretable porque ayuda al lector a hacer las inferencias necesarias.   (G. Reyes, 1998:127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AF94-F62A-4620-8964-24CC7D1CF5A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quema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de la coherencia de un texto </a:t>
            </a:r>
            <a:br>
              <a:rPr sz="4000"/>
            </a:br>
            <a:r>
              <a:rPr b="0" lang="es-MX" sz="2800" spc="-1" strike="noStrike">
                <a:solidFill>
                  <a:srgbClr val="ffcc00"/>
                </a:solidFill>
                <a:latin typeface="Impact"/>
              </a:rPr>
              <a:t>(G. Reyes, 1998: 128)</a:t>
            </a:r>
            <a:endParaRPr b="0" lang="en-US" sz="2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66" name="Oval 27"/>
          <p:cNvSpPr/>
          <p:nvPr/>
        </p:nvSpPr>
        <p:spPr>
          <a:xfrm>
            <a:off x="1619280" y="1773360"/>
            <a:ext cx="6192720" cy="446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grpSp>
        <p:nvGrpSpPr>
          <p:cNvPr id="267" name="Group 30"/>
          <p:cNvGrpSpPr/>
          <p:nvPr/>
        </p:nvGrpSpPr>
        <p:grpSpPr>
          <a:xfrm>
            <a:off x="2987640" y="2276640"/>
            <a:ext cx="4105080" cy="3480120"/>
            <a:chOff x="2987640" y="2276640"/>
            <a:chExt cx="4105080" cy="3480120"/>
          </a:xfrm>
        </p:grpSpPr>
        <p:sp>
          <p:nvSpPr>
            <p:cNvPr id="268" name="Line 21"/>
            <p:cNvSpPr/>
            <p:nvPr/>
          </p:nvSpPr>
          <p:spPr>
            <a:xfrm>
              <a:off x="3505320" y="4822560"/>
              <a:ext cx="722880" cy="469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69" name="Rectangle 5"/>
            <p:cNvSpPr/>
            <p:nvPr/>
          </p:nvSpPr>
          <p:spPr>
            <a:xfrm>
              <a:off x="2987640" y="3251520"/>
              <a:ext cx="3776760" cy="14612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0" name="Line 6"/>
            <p:cNvSpPr/>
            <p:nvPr/>
          </p:nvSpPr>
          <p:spPr>
            <a:xfrm>
              <a:off x="3315960" y="3251520"/>
              <a:ext cx="0" cy="146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1" name="Line 7"/>
            <p:cNvSpPr/>
            <p:nvPr/>
          </p:nvSpPr>
          <p:spPr>
            <a:xfrm>
              <a:off x="5943240" y="3251520"/>
              <a:ext cx="0" cy="146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2" name="Line 8"/>
            <p:cNvSpPr/>
            <p:nvPr/>
          </p:nvSpPr>
          <p:spPr>
            <a:xfrm>
              <a:off x="3808800" y="325152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>
              <a:off x="4300920" y="325152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4" name="Line 10"/>
            <p:cNvSpPr/>
            <p:nvPr/>
          </p:nvSpPr>
          <p:spPr>
            <a:xfrm>
              <a:off x="4957920" y="325152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5" name="Line 11"/>
            <p:cNvSpPr/>
            <p:nvPr/>
          </p:nvSpPr>
          <p:spPr>
            <a:xfrm>
              <a:off x="5450760" y="325152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6" name="Line 12"/>
            <p:cNvSpPr/>
            <p:nvPr/>
          </p:nvSpPr>
          <p:spPr>
            <a:xfrm flipV="1">
              <a:off x="3808800" y="4223880"/>
              <a:ext cx="0" cy="488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 flipV="1">
              <a:off x="4300920" y="4223880"/>
              <a:ext cx="0" cy="488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8" name="Line 14"/>
            <p:cNvSpPr/>
            <p:nvPr/>
          </p:nvSpPr>
          <p:spPr>
            <a:xfrm flipV="1">
              <a:off x="4957920" y="4469400"/>
              <a:ext cx="0" cy="243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9" name="Line 15"/>
            <p:cNvSpPr/>
            <p:nvPr/>
          </p:nvSpPr>
          <p:spPr>
            <a:xfrm flipV="1">
              <a:off x="5450760" y="4223880"/>
              <a:ext cx="0" cy="488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0" name="Line 16"/>
            <p:cNvSpPr/>
            <p:nvPr/>
          </p:nvSpPr>
          <p:spPr>
            <a:xfrm flipV="1">
              <a:off x="3151800" y="2276640"/>
              <a:ext cx="0" cy="9748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1" name="Line 17"/>
            <p:cNvSpPr/>
            <p:nvPr/>
          </p:nvSpPr>
          <p:spPr>
            <a:xfrm>
              <a:off x="3151800" y="2276640"/>
              <a:ext cx="98496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2" name="Line 18"/>
            <p:cNvSpPr/>
            <p:nvPr/>
          </p:nvSpPr>
          <p:spPr>
            <a:xfrm>
              <a:off x="4137120" y="2276640"/>
              <a:ext cx="0" cy="974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>
              <a:off x="6436080" y="4115880"/>
              <a:ext cx="656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 flipV="1">
              <a:off x="5614560" y="2518920"/>
              <a:ext cx="0" cy="975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5614560" y="471276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 flipH="1">
              <a:off x="4629600" y="5199480"/>
              <a:ext cx="98496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7" name="Line 24"/>
            <p:cNvSpPr/>
            <p:nvPr/>
          </p:nvSpPr>
          <p:spPr>
            <a:xfrm flipV="1">
              <a:off x="4629600" y="471240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8" name="Text Box 28"/>
            <p:cNvSpPr/>
            <p:nvPr/>
          </p:nvSpPr>
          <p:spPr>
            <a:xfrm>
              <a:off x="3505320" y="3879000"/>
              <a:ext cx="227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Impact"/>
                </a:rPr>
                <a:t>TEXTO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9" name="Text Box 29"/>
            <p:cNvSpPr/>
            <p:nvPr/>
          </p:nvSpPr>
          <p:spPr>
            <a:xfrm>
              <a:off x="3505320" y="5388480"/>
              <a:ext cx="258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Impact"/>
                </a:rPr>
                <a:t>CONTEXTO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D666-90E8-4373-89FD-BA66BB95767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trategias para la textualización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eñales de tráfico”: Björk y Blomstend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tablecimiento de párraf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nectores (marcadores textuales)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peticiones, sinónimos y pronombr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untua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Transición entre párraf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2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7EA3-77AD-43E5-B106-7369AF3F8456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89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2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5180-64FC-4D5D-9E9B-CDF21525BBD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1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D19A-BAF3-4FF6-961A-0AD65421C08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298" name="Picture 6" descr="comprension lectora"/>
          <p:cNvPicPr/>
          <p:nvPr/>
        </p:nvPicPr>
        <p:blipFill>
          <a:blip r:embed="rId1"/>
          <a:stretch/>
        </p:blipFill>
        <p:spPr>
          <a:xfrm>
            <a:off x="2987640" y="2060640"/>
            <a:ext cx="3465720" cy="35290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7"/>
          <p:cNvSpPr/>
          <p:nvPr/>
        </p:nvSpPr>
        <p:spPr>
          <a:xfrm>
            <a:off x="611280" y="26028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onformación del párrafo: Baumann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38400" y="234936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Impact"/>
              </a:rPr>
              <a:t>Idea principal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635160" y="3100320"/>
            <a:ext cx="231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Impact"/>
              </a:rPr>
              <a:t>Ideas 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Impact"/>
              </a:rPr>
              <a:t>secundarias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2" name="Line 10"/>
          <p:cNvSpPr/>
          <p:nvPr/>
        </p:nvSpPr>
        <p:spPr>
          <a:xfrm>
            <a:off x="2771640" y="2637000"/>
            <a:ext cx="505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3" name="Line 11"/>
          <p:cNvSpPr/>
          <p:nvPr/>
        </p:nvSpPr>
        <p:spPr>
          <a:xfrm flipH="1">
            <a:off x="3995280" y="3357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4" name="Line 12"/>
          <p:cNvSpPr/>
          <p:nvPr/>
        </p:nvSpPr>
        <p:spPr>
          <a:xfrm flipH="1">
            <a:off x="3492000" y="3500280"/>
            <a:ext cx="324036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5" name="Line 13"/>
          <p:cNvSpPr/>
          <p:nvPr/>
        </p:nvSpPr>
        <p:spPr>
          <a:xfrm flipH="1">
            <a:off x="5724000" y="3573360"/>
            <a:ext cx="1008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6227280" y="386064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703D-3233-4A5C-94AA-9A4821C8448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quema organizador de los contenidos del módul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6800" y="1273320"/>
            <a:ext cx="83905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1. El proceso de la escritura.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                    ¿Dónde estoy?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2.  Los géneros académicos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3.  La planificación de un texto académico.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</a:t>
            </a:r>
            <a:br>
              <a:rPr sz="18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       </a:t>
            </a:r>
            <a:r>
              <a:rPr b="1" lang="es-MX" sz="1600" spc="-1" strike="noStrike">
                <a:solidFill>
                  <a:srgbClr val="ffff00"/>
                </a:solidFill>
                <a:latin typeface="Impact"/>
              </a:rPr>
              <a:t>Revisión y práctica de estrategias.</a:t>
            </a:r>
            <a:endParaRPr b="1" lang="en-US" sz="16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4.  La textualización de un texto académico.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      </a:t>
            </a:r>
            <a:r>
              <a:rPr b="1" lang="es-MX" sz="1600" spc="-1" strike="noStrike">
                <a:solidFill>
                  <a:srgbClr val="ffff00"/>
                </a:solidFill>
                <a:latin typeface="Impact"/>
              </a:rPr>
              <a:t>Revisión y práctica de estrategias.</a:t>
            </a:r>
            <a:endParaRPr b="1" lang="en-US" sz="16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5.  La edición de un texto académico.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Impact"/>
              </a:rPr>
              <a:t>6.  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Características generales de los textos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académicos más usados.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Impact"/>
              </a:rPr>
              <a:t>7.  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Hacia una mejor competencia en la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 ¿Hacia dónde me voy a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escritura de textos académicos.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     dirigir?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084720" y="1700280"/>
            <a:ext cx="0" cy="41050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1979640" y="162864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1979640" y="2133720"/>
            <a:ext cx="0" cy="215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1979640" y="3284640"/>
            <a:ext cx="0" cy="215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1979640" y="4365720"/>
            <a:ext cx="0" cy="215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979640" y="494172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1979640" y="5734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4211640" y="1484280"/>
            <a:ext cx="7920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E698-9DAD-4ECE-8DFF-BE0AE61D606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308" name="Picture 3" descr="hamburgesa2"/>
          <p:cNvPicPr/>
          <p:nvPr/>
        </p:nvPicPr>
        <p:blipFill>
          <a:blip r:embed="rId1"/>
          <a:stretch/>
        </p:blipFill>
        <p:spPr>
          <a:xfrm>
            <a:off x="2843280" y="1844640"/>
            <a:ext cx="3456000" cy="30970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1403280" y="692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611280" y="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onformación del párrafo: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More.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39840" y="19065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684360" y="1557360"/>
            <a:ext cx="129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611280" y="184464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Pan superior: oración  de introducción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611280" y="371628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Lechuga, jitomate, cebolla y queso: ideas secundarias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6804000" y="213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Carne: idea principal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6804000" y="3860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Pan inferior: oración de conclusión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7" name="Line 17"/>
          <p:cNvSpPr/>
          <p:nvPr/>
        </p:nvSpPr>
        <p:spPr>
          <a:xfrm>
            <a:off x="2195640" y="2565360"/>
            <a:ext cx="1224000" cy="216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8" name="Line 18"/>
          <p:cNvSpPr/>
          <p:nvPr/>
        </p:nvSpPr>
        <p:spPr>
          <a:xfrm flipV="1">
            <a:off x="2627280" y="3284280"/>
            <a:ext cx="792360" cy="10810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9" name="Line 19"/>
          <p:cNvSpPr/>
          <p:nvPr/>
        </p:nvSpPr>
        <p:spPr>
          <a:xfrm flipH="1">
            <a:off x="5866920" y="2421000"/>
            <a:ext cx="1009800" cy="1224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20" name="Line 20"/>
          <p:cNvSpPr/>
          <p:nvPr/>
        </p:nvSpPr>
        <p:spPr>
          <a:xfrm flipH="1">
            <a:off x="5867280" y="4076640"/>
            <a:ext cx="86544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A15B-11D2-4F3D-8683-E576698540C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6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ar el establecimiento de párrafos con la </a:t>
            </a:r>
            <a:r>
              <a:rPr b="1" i="1" lang="es-MX" sz="3200" spc="-1" strike="noStrike">
                <a:solidFill>
                  <a:srgbClr val="ffffff"/>
                </a:solidFill>
                <a:latin typeface="Arial Narrow"/>
              </a:rPr>
              <a:t>Guía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de Cassany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Intercambiar escritos para otra revis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Modificar el texto: reescribirl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Guardar el escrito modificad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7D47-1344-40D8-87B3-7A1EE9DD024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 7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ión del contenido con la</a:t>
            </a:r>
            <a:r>
              <a:rPr b="1" i="1" lang="es-MX" sz="3200" spc="-1" strike="noStrike">
                <a:solidFill>
                  <a:srgbClr val="ffffff"/>
                </a:solidFill>
                <a:latin typeface="Arial Narrow"/>
              </a:rPr>
              <a:t> Guía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de Serafini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Intercambiar escritos para otra revis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Modificar texto: reescribirl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Guardar escrito modificad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470A-2D30-49FA-905D-45EB89594C4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8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ar uso de conectores con la </a:t>
            </a:r>
            <a:r>
              <a:rPr b="1" i="1" lang="es-MX" sz="3200" spc="-1" strike="noStrike">
                <a:solidFill>
                  <a:srgbClr val="ffffff"/>
                </a:solidFill>
                <a:latin typeface="Arial Narrow"/>
              </a:rPr>
              <a:t>Guía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Modificar texto. (No se reescribe hasta terminar de revisar el uso de las otras señales para conseguir coherencia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91BB-A4BF-465A-9CA5-D0CB4933731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9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ar: repeticiones, sinónimos y pronombres; puntuación; y, transición entre párraf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asar en limpio el escrit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Guardar versión anterior corregid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C6AC-BDE6-4DB8-80D0-47D69AC5DE9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10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visar para escribir la versión última del text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Consultar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Diez truquillos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…, de D. Cassany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Guía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e Serafini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Veinte errores frecuentes y veinte reglas para evitarlos,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en G. Reyes, 1998: 89 - 97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Otras obras de consult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visión compartida con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Guía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de Björk y Blomstend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scribir en limpio el tex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27AE-D51D-4573-A5B1-6B022764F78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280" y="249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5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La edición de un texto académic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98C-723D-4BD7-A9D0-6F7C8AB4D5E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Recomendaciones para editar un texto académic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Verificar la adecuación d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isposición espacial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Tipografí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mágenes y gráfic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Índice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arátul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pego al formato y, si procede, a las normas para publicac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¡No abusar del diseño gráfico!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3669-9C2F-4A5E-90BF-758B0A7DF406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923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6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aracterísticas generales de géneros académicos más usados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A22-BD37-4931-AC10-BCC07CB3A63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Géneros académicos más utilizados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mentari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nsay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ec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onenci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Artículo de opinión o de divulga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Monografí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2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89D3-A1FE-434A-8C9E-AEABDDCAF64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02760" y="1844640"/>
            <a:ext cx="7790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00"/>
                </a:solidFill>
                <a:latin typeface="Impact"/>
              </a:rPr>
              <a:t>Tema 1:</a:t>
            </a: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00"/>
                </a:solidFill>
                <a:latin typeface="Impact"/>
              </a:rPr>
              <a:t>El proceso de la escritura</a:t>
            </a: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9E4A-86D8-4FA2-95CD-9E54B762EE0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comentari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Los comentarios se organizan en este orden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1° Planteamiento del tema: Presentación de lo que se coment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2° Explicación ordenada del asunto o de los sucesos comentados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3° Juicio crítico del comentarist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4° Enunciación de las posibles consecuenci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9526-03A3-4E97-9C84-F00923D52BA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ensay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Aunque el orden de los elementos es muy flexible, el ensayo académico sigue este orden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1° Análisis del tema: Descrip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2° Expresión de las opiniones personales con argumentos: Argumentación soportada en referencia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3° Explicación de las consecuencias del tem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C2D2-3ADC-41E5-98C8-56F9BFE68998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 lección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ropósito académico indiscutibl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resentación de una secuencia didáctica complet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vitar el abuso de la nominaliza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xplicar la terminologí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mplear todos los recursos que faciliten su comprensión por parte del lector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464D-A9F3-45F4-8559-8A2D3B7A800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 ponenci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e elaboran para responder a una convocatori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aracterísticas claramente establecid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artes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Resumen (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abstract)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Palabras clave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Desarrollo del tem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Not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Bibliografí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EB18-3582-4897-8C84-FA4216E960F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l artículo de opinion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o de divulgación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s partes que conforman un artículo son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- Planteamiento del tem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resentación de los elementos centrales del tem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- Juicio crític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-  Perspectiva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- Solu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985A-9910-405C-ADE7-F5A027138B8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 monografí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a monografía es un texto más o menos extens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s partes o secciones que debe tener una monografía son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A. Introducción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B. Desarrollo del tema. 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C. Conclusion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D. Bibliografí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E5FB-13BC-4450-B6DF-58CEB9C1CDD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560" y="26366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7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ffcc00"/>
                </a:solidFill>
                <a:latin typeface="Impact"/>
              </a:rPr>
              <a:t>Hacia una mejor competencia </a:t>
            </a:r>
            <a:br>
              <a:rPr sz="4000"/>
            </a:br>
            <a:r>
              <a:rPr b="1" lang="es-MX" sz="4000" spc="-1" strike="noStrike">
                <a:solidFill>
                  <a:srgbClr val="ffcc00"/>
                </a:solidFill>
                <a:latin typeface="Impact"/>
              </a:rPr>
              <a:t>en</a:t>
            </a:r>
            <a:br>
              <a:rPr sz="4000"/>
            </a:br>
            <a:r>
              <a:rPr b="1" lang="es-MX" sz="4000" spc="-1" strike="noStrike">
                <a:solidFill>
                  <a:srgbClr val="ffcc00"/>
                </a:solidFill>
                <a:latin typeface="Impact"/>
              </a:rPr>
              <a:t>la escritura de  géneros académicos</a:t>
            </a:r>
            <a:r>
              <a:rPr b="0" lang="es-ES" sz="40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A846-85DB-4679-B8F0-CA9B2B0CAF0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cc00"/>
                </a:solidFill>
                <a:latin typeface="Impact"/>
              </a:rPr>
              <a:t>Se buscan…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Analizar todos los escritos elaborados para hacer una </a:t>
            </a:r>
            <a:r>
              <a:rPr b="1" i="1" lang="es-MX" sz="3200" spc="-1" strike="noStrike">
                <a:solidFill>
                  <a:srgbClr val="ffffff"/>
                </a:solidFill>
                <a:latin typeface="Arial Narrow"/>
              </a:rPr>
              <a:t>lista de las faltas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más frecuent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mentar los resultados del análisis y las expectativas para erradicar las falta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ensar en la recompensa que se obtendrá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F6C2-5B35-4FE1-9452-F9EA29584DA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laboración de un programa personal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dentifica tus áreas de fortaleza y de oportunidad de desarrollo: toma en cuenta los resultados de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Se buscan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labora un programa personal para desarrollar las habilidades relacionadas con la escritura de géneros académic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mprométete con otro colega para apoyarse mutuamente en la realización de este program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261B-EEDA-4F4B-A30A-7581AA9101B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¡Ánimo!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¡Vayan adelante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 en el camino para convertirse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n escritores/as expertos/as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de géneros académicos!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C9D7-9458-4EE7-A5E9-A0B69C946F8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Impact"/>
              </a:rPr>
              <a:t>Resultado de investigaciones sobre las conductas de escritos expertos </a:t>
            </a:r>
            <a:br>
              <a:rPr sz="3200"/>
            </a:br>
            <a:r>
              <a:rPr b="0" lang="es-MX" sz="3200" spc="-1" strike="noStrike">
                <a:solidFill>
                  <a:srgbClr val="ffcc00"/>
                </a:solidFill>
                <a:latin typeface="Impact"/>
              </a:rPr>
              <a:t>y escritores aprendices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so de estrategias en: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laneación,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Textualización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ión, 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dición final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mpleo de las estrategias: flexible vs. inflexibl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F689-A424-4C4C-8552-DE745197608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23600" y="915480"/>
            <a:ext cx="7543800" cy="17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Impact"/>
              </a:rPr>
              <a:t>D. R.  Septiembre de 2007</a:t>
            </a:r>
            <a:br>
              <a:rPr sz="3600"/>
            </a:br>
            <a:r>
              <a:rPr b="0" lang="es-MX" sz="3600" spc="-1" strike="noStrike">
                <a:solidFill>
                  <a:srgbClr val="ffcc00"/>
                </a:solidFill>
                <a:latin typeface="Impact"/>
              </a:rPr>
              <a:t>Monterrey, Nuevo León; México.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23600" y="3789000"/>
            <a:ext cx="7620120" cy="230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cuela de Graduados en Educació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niversidad Virtu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Tecnológico de Monterre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7A47-797F-41B4-9F02-407AB62AB8C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¿Qué es una estrategia?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on sospechas inteligentes aunque arriesgadas para llevar a cabo una actividad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gulan la actividad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detallan ni prescriben totalmente el curso  de una acc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ndependientes de un ámbito particular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u aplicación requiere de una contextualizac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mplican autodirección y autocontrol (supervisión y evaluación       modificaciones necesarias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411280" y="5734080"/>
            <a:ext cx="3603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636A-BF13-42D1-A7B6-E5FB75406F5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Mentalidad estratégic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MX" sz="3600" spc="-1" strike="noStrike">
                <a:solidFill>
                  <a:srgbClr val="ffffff"/>
                </a:solidFill>
                <a:latin typeface="Arial Narrow"/>
              </a:rPr>
              <a:t>Capacidad de representarse y analizar problemas y ser flexible para dar con las soluciones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0766-1B02-4F2B-90C1-44BA6258FD7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critor experto: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620120" cy="45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igue un proceso complej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naliza a sus lector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lanifica su tex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Busca ide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Hace borrador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visa los borradores, etcéter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sultado: Produce textos coherentes, claros y correctos que el lector entiende sin dificulta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9:20:41Z</dcterms:created>
  <dc:creator>Perla Jtt. Sánchez Reyna</dc:creator>
  <dc:description/>
  <dc:language>en-US</dc:language>
  <cp:lastModifiedBy>claudia</cp:lastModifiedBy>
  <dcterms:modified xsi:type="dcterms:W3CDTF">2009-11-25T21:32:13Z</dcterms:modified>
  <cp:revision>116</cp:revision>
  <dc:subject>Lic. Cesar Davis Moncada</dc:subject>
  <dc:title>PAH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PublishingExpirationDate">
    <vt:lpwstr/>
  </property>
  <property fmtid="{D5CDD505-2E9C-101B-9397-08002B2CF9AE}" pid="4" name="PublishingStartDate">
    <vt:lpwstr/>
  </property>
  <property fmtid="{D5CDD505-2E9C-101B-9397-08002B2CF9AE}" pid="5" name="SPSDescription">
    <vt:lpwstr/>
  </property>
  <property fmtid="{D5CDD505-2E9C-101B-9397-08002B2CF9AE}" pid="6" name="Status">
    <vt:lpwstr/>
  </property>
</Properties>
</file>